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1D4-C363-4B1B-8146-1AF44EF3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2ED-F7D1-4239-BB80-2ABFFF5B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66B-2D47-4E17-9410-7D238E28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DB69-C46C-4BC7-87E7-8E21CC5E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C5A9-AC05-45C5-A183-8DA00345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3693-DBE3-450A-ACFF-2622AC3E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94E-EF24-4C87-8875-9A87D35E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F796-E923-4A51-868C-A95D8D2E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083-CDED-4C32-A291-D36B0975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41A0-13D5-447F-9CE5-1A45FB07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7682-6771-4553-B4E7-191FB492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5D8-8A46-4CD0-9278-58A129ED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9D62-ABC1-4D55-8FC1-B6495DE6F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09480"/>
            <a:ext cx="5715000" cy="3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y Question: How does light travel and move and help you se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y Answer: Light travels in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ay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or in a straight beam. To see an objects, there must be light. Light ray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flect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off of an object, and into your eyes. You can see things that are smoother better because light reflects off of smooth things better than rough things. Try putting a pencil in water. See how the pencil looks bent? This is actually light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fractin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When light refracts, it changes direction because it has traveled from one medium to another. Light doesn’t always travel in rays.  Sometimes light can bend when it hits a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cav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, or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onvex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urface.   Concave is when light is curved inward, like the inside of a bowl. Convex is when light is curved outward, like the outside of a b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Table Lamp"/>
          <p:cNvPicPr/>
          <p:nvPr/>
        </p:nvPicPr>
        <p:blipFill>
          <a:blip r:embed="rId1"/>
          <a:stretch/>
        </p:blipFill>
        <p:spPr>
          <a:xfrm>
            <a:off x="2514600" y="4648320"/>
            <a:ext cx="1909800" cy="2666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3880" y="7772400"/>
            <a:ext cx="4191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from this lamp travels in rays. The ray  of light reflect off of objects, and into your eyes, allowing you to see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43080" y="2133360"/>
            <a:ext cx="300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800600"/>
            <a:ext cx="556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lossa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nvex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curved outward like the outer side of a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ncav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Curved inward like the inside of a d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a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a narrow beam of light or other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flec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When rays of light are reflected, they bounce off a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frac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When a light ray is refracted, it changes in direction because it has traveled from one medium from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: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iana Corm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609480"/>
            <a:ext cx="300996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7:23:45Z</dcterms:created>
  <dc:creator>Judith M Paradis</dc:creator>
  <dc:description/>
  <dc:language>en-US</dc:language>
  <cp:lastModifiedBy>Judith M Paradis</cp:lastModifiedBy>
  <dcterms:modified xsi:type="dcterms:W3CDTF">2007-12-20T20:18:48Z</dcterms:modified>
  <cp:revision>7</cp:revision>
  <dc:subject/>
  <dc:title>Slide 1</dc:title>
</cp:coreProperties>
</file>